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7.wmf" ContentType="image/x-wmf"/>
  <Override PartName="/ppt/media/wind.wav" ContentType="audio/x-wav"/>
  <Override PartName="/ppt/media/image9.wmf" ContentType="image/x-wmf"/>
  <Override PartName="/ppt/media/image16.wmf" ContentType="image/x-wmf"/>
  <Override PartName="/ppt/media/voltage.wav" ContentType="audio/x-wav"/>
  <Override PartName="/ppt/media/image7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19.jpeg" ContentType="image/jpeg"/>
  <Override PartName="/ppt/media/suction.wav" ContentType="audio/x-wav"/>
  <Override PartName="/ppt/media/image3.png" ContentType="image/png"/>
  <Override PartName="/ppt/media/image11.wmf" ContentType="image/x-wmf"/>
  <Override PartName="/ppt/media/image18.wmf" ContentType="image/x-wmf"/>
  <Override PartName="/ppt/media/image2.jpeg" ContentType="image/jpeg"/>
  <Override PartName="/ppt/media/push.wav" ContentType="audio/x-wav"/>
  <Override PartName="/ppt/media/image4.wmf" ContentType="image/x-wmf"/>
  <Override PartName="/ppt/media/click.wav" ContentType="audio/x-wav"/>
  <Override PartName="/ppt/media/image1.jpeg" ContentType="image/jpeg"/>
  <Override PartName="/ppt/media/image13.jpeg" ContentType="image/jpeg"/>
  <Override PartName="/ppt/media/image12.png" ContentType="image/png"/>
  <Override PartName="/ppt/media/drumroll.wav" ContentType="audio/x-wav"/>
  <Override PartName="/ppt/media/image14.wmf" ContentType="image/x-wmf"/>
  <Override PartName="/ppt/media/image15.jpeg" ContentType="image/jpeg"/>
  <Override PartName="/ppt/media/arrow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8CC-3731-47FD-B696-98E4340C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7C6-0B21-40A2-A6C4-2D892777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A9E-2641-43B5-AB74-772E4F75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84A-CAB9-455B-AF96-E1857E34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CE69-17CD-4326-A83E-9856943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44AE-DA60-4874-802D-4BF4BCD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29E9-2096-45EF-A8FC-63A3A347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15D-A127-424A-B306-6DEE54E1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566-9D1B-4194-9DDE-C919BFAF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6FB-1DF7-4393-BD47-24EDF81F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D341-E668-41D3-8488-6D59A5F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1EA-464C-42FB-BB91-C328655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C3C-BDE9-45D1-8DE8-8061C41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09A-130F-400F-B54E-020EC33D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E9F-2467-4B3A-9976-0A55A8C3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5BB1-07E0-4B36-BE40-770509A9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1DB-F8C9-4463-8D3E-03E68360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5D2-E98B-4C48-82F5-6CD9C8D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816-756D-437C-9992-F3846C42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10-D139-470C-91EA-E011ABD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4E4-B937-4B3B-940C-DFF79E3D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82C-BA58-49D6-A805-D98DB55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9CB-8DEB-43A0-A0C3-1E4B89A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FA2-637E-4454-8381-9EB0BBC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69C6-A268-482C-A212-C57304AA5026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E8D-C33F-44FD-9AFA-EF04782139D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MSj03884630000%5B1%5D.wav" TargetMode="External"/><Relationship Id="rId3" Type="http://schemas.microsoft.com/office/2007/relationships/media" Target="file:///tmp/home/.config/libreoffice/4/user/gallery/MSj0388463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BD19014_0000%5B1%5D.wav" TargetMode="External"/><Relationship Id="rId3" Type="http://schemas.microsoft.com/office/2007/relationships/media" Target="file:///tmp/home/.config/libreoffice/4/user/gallery/MSBD19014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MSSN00771A0000%5B1%5D.wav" TargetMode="External"/><Relationship Id="rId3" Type="http://schemas.microsoft.com/office/2007/relationships/media" Target="file:///tmp/home/.config/libreoffice/4/user/gallery/MSSN00771A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BD18826_0000%5B1%5D.wav" TargetMode="External"/><Relationship Id="rId3" Type="http://schemas.microsoft.com/office/2007/relationships/media" Target="file:///tmp/home/.config/libreoffice/4/user/gallery/MSBD18826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Windows%20XP%20Pop-up%20Blocked.wav" TargetMode="External"/><Relationship Id="rId3" Type="http://schemas.microsoft.com/office/2007/relationships/media" Target="file:///tmp/home/.config/libreoffice/4/user/gallery/Windows%20XP%20Pop-up%20Blocke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4799.wav" TargetMode="External"/><Relationship Id="rId3" Type="http://schemas.microsoft.com/office/2007/relationships/media" Target="file:///tmp/home/.config/libreoffice/4/user/gallery/j0074799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SN00831A0000%5B1%5D.wav" TargetMode="External"/><Relationship Id="rId3" Type="http://schemas.microsoft.com/office/2007/relationships/media" Target="file:///tmp/home/.config/libreoffice/4/user/gallery/MSSN00831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urtle’s Race with Bea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mazing Words and Vocabula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truggle or fight, especially one that goes on for a long tim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4181760" cy="354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3" name="click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live in a plac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81480" y="2571840"/>
            <a:ext cx="34002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drumroll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make a decision ; to solve or fix a proble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2693880"/>
            <a:ext cx="441936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shreg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gently talk someone into doing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2686320" cy="403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5" name="bomb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62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lope or slant that connects two different levels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274920"/>
            <a:ext cx="6400800" cy="2676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ind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6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surprise and shock very suddenly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59680" cy="353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push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hawl or blanket that people can wear over their shirts; worn in Latin America with bright colors and strip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200400" cy="311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4419720"/>
            <a:ext cx="28195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5" name="whoosh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3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time away from school or your usual dut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suctio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3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5491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Vocabulary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challeng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lodge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dam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buri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embarrass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halfway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8f48"/>
                </a:solidFill>
                <a:latin typeface="Trebuchet MS"/>
              </a:rPr>
              <a:t>challenged (challenge)</a:t>
            </a:r>
            <a:endParaRPr b="0" lang="en-US" sz="5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call or invite someone to a game or contest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211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lase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lodg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den of an animal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010280" cy="35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35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dam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wall built to hold back the water of a creek, lake, or river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3411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buried (bury)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hide or cover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4791240" cy="314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81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78f48"/>
                </a:solidFill>
                <a:latin typeface="Trebuchet MS"/>
              </a:rPr>
              <a:t>embarrassed (embarrass)</a:t>
            </a:r>
            <a:endParaRPr b="0" lang="en-US" sz="4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feel that people are thinking of you badly because of something you said or did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1780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reeze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halfway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be in the middl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54280" cy="32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5" name="arrow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8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mazing Wor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104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cashre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16:20Z</dcterms:created>
  <dc:creator> </dc:creator>
  <dc:description/>
  <cp:keywords/>
  <dc:language>en-US</dc:language>
  <cp:lastModifiedBy> </cp:lastModifiedBy>
  <dcterms:modified xsi:type="dcterms:W3CDTF">2007-10-16T01:48:59Z</dcterms:modified>
  <cp:revision>2</cp:revision>
  <dc:subject/>
  <dc:title>Turtle’s Race with Beaver Amazing Words and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